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14.png" ContentType="image/png"/>
  <Override PartName="/ppt/media/image2.png" ContentType="image/png"/>
  <Override PartName="/ppt/media/image3.png" ContentType="image/png"/>
  <Override PartName="/ppt/media/image4.png" ContentType="image/png"/>
  <Override PartName="/ppt/media/image11.png" ContentType="image/png"/>
  <Override PartName="/ppt/media/image5.wmf" ContentType="image/x-wmf"/>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15.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commentAuthors.xml><?xml version="1.0" encoding="utf-8"?>
<p:cmAuthorLst xmlns:p="http://schemas.openxmlformats.org/presentationml/2006/main">
  <p:cmAuthor id="0" name="argraves" initials="a" lastIdx="1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1.xml><?xml version="1.0" encoding="utf-8"?>
<p:cmLst xmlns:p="http://schemas.openxmlformats.org/presentationml/2006/main">
  <p:cm authorId="0" dt="2011-01-07T11:16:07.912000000" idx="1">
    <p:pos x="4776" y="1374"/>
    <p:text>Link to a sample.  Also discuss that formative assessment doesn't have to be formal--"thumbs up", the use of white boards, a homework check--all serve as formative assessments.  Exit tickets are good, but don't feel like you need another document or activity added to a lesson to be conducting formative assessment. </p:text>
  </p:cm>
  <p:cm authorId="0" dt="2011-01-13T08:42:11.218000000" idx="2">
    <p:pos x="4812" y="1888"/>
    <p:text>The question that should be asked after reviewing formative assessment data is "Based on this data, what are we going to do in tomorrow's learning plan to improve student performance?" Discuss the various benefits of gathering formative assessment data, also touch upon how reading strategies make great formative assessment tools for teachers.</p:text>
  </p:cm>
  <p:cm authorId="0" dt="2011-01-07T11:04:48.884000000" idx="3">
    <p:pos x="2623" y="3146"/>
    <p:text>Even in classes like history, students have prior knowledge from earlier grades that could be "tapped into" with good use of a preassessment tool.</p:text>
  </p:cm>
  <p:cm authorId="0" dt="2011-01-07T11:05:31.067000000" idx="4">
    <p:pos x="5616" y="2976"/>
    <p:text>If you will have opportunities to differentiate based on interest, knowing that prior to a unit is helpful.  </p:text>
  </p:cm>
  <p:cm authorId="0" dt="2011-01-07T11:06:58.771000000" idx="5">
    <p:pos x="3731" y="3527"/>
    <p:text>There are many learning style questionnaires out there, and each will reveal different information, be sure the tool you use will give you the data you'll need.</p:text>
  </p:cm>
</p:cmLst>
</file>

<file path=ppt/comments/comment12.xml><?xml version="1.0" encoding="utf-8"?>
<p:cmLst xmlns:p="http://schemas.openxmlformats.org/presentationml/2006/main">
  <p:cm authorId="0" dt="2011-01-07T11:16:07.912000000" idx="6">
    <p:pos x="4776" y="1374"/>
    <p:text>Link to a sample.  Also discuss that formative assessment doesn't have to be formal--"thumbs up", the use of white boards, a homework check--all serve as formative assessments.  Exit tickets are good, but don't feel like you need another document or activity added to a lesson to be conducting formative assessment. </p:text>
  </p:cm>
  <p:cm authorId="0" dt="2011-01-13T08:42:11.218000000" idx="7">
    <p:pos x="4812" y="1888"/>
    <p:text>The question that should be asked after reviewing formative assessment data is "Based on this data, what are we going to do in tomorrow's learning plan to improve student performance?" Discuss the various benefits of gathering formative assessment data, also touch upon how reading strategies make great formative assessment tools for teachers.</p:text>
  </p:cm>
  <p:cm authorId="0" dt="2011-01-07T11:04:48.884000000" idx="8">
    <p:pos x="2623" y="3146"/>
    <p:text>Even in classes like history, students have prior knowledge from earlier grades that could be "tapped into" with good use of a preassessment tool.</p:text>
  </p:cm>
  <p:cm authorId="0" dt="2011-01-07T11:05:31.067000000" idx="9">
    <p:pos x="5616" y="2976"/>
    <p:text>If you will have opportunities to differentiate based on interest, knowing that prior to a unit is helpful.  </p:text>
  </p:cm>
  <p:cm authorId="0" dt="2011-01-07T11:06:58.771000000" idx="10">
    <p:pos x="3731" y="3527"/>
    <p:text>There are many learning style questionnaires out there, and each will reveal different information, be sure the tool you use will give you the data you'll need.</p:text>
  </p:cm>
</p:cmLst>
</file>

<file path=ppt/comments/comment13.xml><?xml version="1.0" encoding="utf-8"?>
<p:cmLst xmlns:p="http://schemas.openxmlformats.org/presentationml/2006/main">
  <p:cm authorId="0" dt="2011-01-07T09:07:01.248000000" idx="11">
    <p:pos x="4776" y="1374"/>
    <p:text>Link to a sample.</p:text>
  </p:cm>
  <p:cm authorId="0" dt="2011-01-07T09:08:14.577000000" idx="12">
    <p:pos x="4812" y="1888"/>
    <p:text>Link to a sample...perhaps the "Catcher In the Rye" example from McTighe session in September?</p:text>
  </p:cm>
  <p:cm authorId="0" dt="2011-01-13T08:30:28.116000000" idx="13">
    <p:pos x="1463" y="2295"/>
    <p:text>Think about the Career and Workplace Readiness Assessment--how can we use our performance tasks to equip students with the 21st century critical thinking skills they'll need to be competitive college and workplace applicants?  How can we give them opportunities to synthesize, to evaluate, and to produce?</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869B-AA1B-4898-B661-D009A90FC1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isconception that the Balanced Assessment Vanguard initiative aims to dispel is the idea that common assessments are only summative pieces created to assess student learning at the end of a unit, a semester, and/or the year.    Balanced Assessment is an apt title for our vanguard initiative because one of the goals is to move away from </a:t>
            </a:r>
            <a:r>
              <a:rPr b="1" lang="en-US" sz="1200" spc="-1" strike="noStrike">
                <a:solidFill>
                  <a:srgbClr val="000000"/>
                </a:solidFill>
                <a:latin typeface="Calibri"/>
              </a:rPr>
              <a:t>merely</a:t>
            </a:r>
            <a:r>
              <a:rPr b="0" lang="en-US" sz="1200" spc="-1" strike="noStrike">
                <a:solidFill>
                  <a:srgbClr val="000000"/>
                </a:solidFill>
                <a:latin typeface="Calibri"/>
              </a:rPr>
              <a:t> using the PLC’s to generate the stage 2 of unit plans.  Although stage 2 is a terrific entry point for PLC collaboration…</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7D94-9970-4FB9-83FF-941C45897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taff is pretty stellar with the use of formative assessment.  However, we now should be bringing that data back to our PLC’s to discuss stage 3 and to collaborate on ways to improve delivery prior to the conclusion of a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ef break—what unit would most benefit from collaboration on formative assessment.  During Department day breaks will be to think about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22DE-14B1-4124-BFE0-6C8E4B47A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taff is pretty stellar with the use of formative assessment.  However, we now should be bringing that data back to our PLC’s to discuss stage 3 and to collaborate on ways to improve delivery prior to the conclusion of a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ef break—what unit would most benefit from collaboration on formative assessment.  During Department day breaks will be to think about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29F2-02D0-4E96-96FC-BCEA4DAC3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eachers feel overwhelmed by the thought of incorporating  authentic, performance tasks into their stage 2 plans.  They worry that they will need more time than their pacing guides will allow.  If a teachers feels strongly about holding on to a traditional unit test, s/he may consider including authentic, performance “mini-questions” as short answer or essay additions to their traditional tests.  However, remember that balanced assessment requires a “scrapbook” of assessment.  If a teacher has quizzes in a unit that are traditional, perhaps the end of unit test could be replaced with an authentic, performance task?  Perhaps even creating opportunities for students to </a:t>
            </a:r>
            <a:r>
              <a:rPr b="1" lang="en-US" sz="1200" spc="-1" strike="noStrike">
                <a:solidFill>
                  <a:srgbClr val="000000"/>
                </a:solidFill>
                <a:latin typeface="Calibri"/>
              </a:rPr>
              <a:t>transfer</a:t>
            </a:r>
            <a:r>
              <a:rPr b="0" lang="en-US" sz="1200" spc="-1" strike="noStrike">
                <a:solidFill>
                  <a:srgbClr val="000000"/>
                </a:solidFill>
                <a:latin typeface="Calibri"/>
              </a:rPr>
              <a:t> what they learn in one discipline to a new context (an inter-disciplinary, or transfer t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ef break—what unit would most benefit from a revision/collaboration on Stage 2.  During Department day breaks will be to think about and reflect on the Stage 2 plan (generate ideas, etc.—See Robin’s form) </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4BF0-02C2-4D63-815B-C90F8DCDA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Before designing a test or task, consider the general types of performances that are implied.  E.G. – for example – regardless of the content, understanding is often revealed through comparing and contrasting or summarizing importan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 This is where criteria, rubrics, and examplars will come into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does the evidence align with our learning goals from stage 1 and are the results sufficiently unambiguous?</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0DF6-3363-49FB-AF70-602742F3E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ypes of questions derive from the desired results and are likely to make the activities/tasks that you design point toward the most appropriate assessments.  The questions on the previous slide make it far less likely that assessments will be appropriate.</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5F12-7C38-42C3-B586-A1C0644C7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s for this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pre-assessment on assessme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ll types of assessment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pre-assessment, its value and uses-Why should we do it?  Show some examples of pre-assessments and analyze (what is being assessed – KUD/What changes might you make to them?)  Provide participants an opportunity to create a pre-assessme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ormative assessment – various types (journals/prompts, small projects, skill demonstrations, self assessments, quizzes/tests, other typ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ts of Understand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s – unit tests, performance tasks, etc…</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participants work time to create/modify a variety of assessments for their uni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rics</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A4C1-D347-4C03-A9C9-FD90F0196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E8D9F-9CB6-4E1E-9E27-5D292350F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6044F-58F3-4A50-A50E-3B88F985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D3ADA-02F4-4294-8C2A-F676BBCA7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E8486-118B-4E72-B023-913BFF70B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95D69-F80D-4426-8A6A-3B1AFC494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30D6B-FFC8-4E82-9F3E-5ADF75665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0DE31-B5AB-42F6-850C-6D17CBD98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66600-D4F0-48B5-BC42-A45A86C5E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D221B-831D-4567-BC5C-ED4FF8105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47DFC-C880-49A4-A5A8-29FEFBA3C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0D4F9-BE52-4CEF-82DA-D996A5228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5978-CE7C-4297-BDB2-C8748FB2C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6EDE3-3489-4794-A8C4-FB3C2DAE3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75813-E4D7-4E17-A90E-68AF022FE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F0301-0150-4D74-9972-C785DC4F5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C2138-D5D5-4C25-906D-63FBC8514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2BDFA-DCCA-44D2-BDF1-552868E04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9299BF-325F-4A10-B1D8-1902283AF4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E012D-2A97-4A30-9EF9-BD4092D7B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99BA6-C22B-4530-B2A6-AA39C739D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686D5-55DC-4779-8A1D-5AD78C3F3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D7885-D764-45FA-8B97-CFC5E96EE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B6FD-175C-4113-8EB8-7033A3B0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5EF38-AF62-413A-A344-5D15BFEE2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1F77B-E32A-4F5B-A1C1-1522E5177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7A2A0-EF53-4B7C-85DC-C8481AE15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CB9D9-AE2A-4E3E-AC23-0F32D4198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C2F86-0A52-48A9-951C-1EDCEC185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E3CD8-571C-4B80-85EB-27837503A6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D0A08D-FD84-4A66-A20D-4A6347346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2031A9-26B8-4060-9873-84DF943D8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30C542-C953-447A-A56B-8EAA80C42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B42CC-8318-4652-BA60-7B984E765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DC6B-5CCB-482B-8AE1-96E3EF040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CB81D-A002-45E0-B485-8D53C97F3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3AC60-07B8-4458-80C9-5D10CB166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07A10-323C-4024-8109-84042F3A37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6B9B8-C1F5-430E-AE1F-4DE467EE3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15EAE-052F-48F9-A161-264BCFA7D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DFA58-6CC1-4979-AA67-764DF3D6E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CF079-91F4-4525-9683-CC9907C23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F7128-5AF5-4C4E-B48A-A1BB780525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190F3D-AB68-4296-B86F-6ADA319E6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1BE032-CEFB-4DDE-A5DA-B5B83599F2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315CD-E477-4C98-B750-35368921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D970E-E012-4B80-A022-087444BC7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FE019C-4E49-4B43-9504-9FE40192A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73E4A-36BE-4CEE-8803-D456762AE2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FC4145-54EB-43A6-96A7-35E808C26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682B00-83BD-4775-90FD-4FE4B2B840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E4C73-A3A0-4271-B722-91FCF5A5B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CC653-AE43-465C-B12F-1B9A00D61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D1990-E127-459A-A956-DBDFF9979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5BBBA-DB05-4DB4-A11F-9EE50CA18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D359F4-86C2-4F89-968C-49B54641CA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817EF-B92B-4ADE-B6A3-8798EA826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5C24DC-6E0E-4747-BB76-8C14C661AC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345078-CE93-47DC-BAC6-8385421C5A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562EB3-4854-4B44-9ACE-429171A2C5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12017-F4B5-4BA4-ABE2-514CB0DD0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85D40-90FC-4C11-A4C9-494AB743A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482B4-6A9D-4479-AD21-B0996E7839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8D4FAA-E86B-4705-83AC-2CDFD146E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469B5-D094-467C-94D4-CAC43C1CD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93B36-DA7B-44D5-AA18-4E421C5A3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EE196-5808-44E3-B76D-7673DE562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72A39-1826-4216-86E5-DA84F8A4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129DF-8EF5-454F-88DC-51E0344D1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651E96-8297-49B9-859D-075E49237F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C36C25-FA14-49C1-BEEF-AA550A9ABB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14C27F-9485-4E1F-9B35-A6483D93D9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A2810-DA12-4493-9E27-1CA8703AF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D03EA1-A1EA-4A2B-ABBC-B7DD9FC98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56D8E-B5FE-41E8-A9F7-C2841C9703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EF6D1-AAA8-4D2D-80BB-F22202A5E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608ED-0453-436C-92FA-5C29452FE8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83642-B0F4-4CF7-A88B-DE1FDEDC8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9A5FB-6828-4C4B-95E0-2DFF4935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0A836B-C15B-4A57-8416-14595BDEA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4DED4-8BA8-416E-AEB2-89127F80D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1A890-D58B-4953-9264-252AB7C90D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741DD0-BEAE-4364-B225-433E7810FF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0B7E26-B7CD-44EB-B1C9-AD411615C2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CF746-A712-4955-A721-9B151CD85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3E63-313A-43B7-AC68-D4E70F6F01A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9328-5E49-4E20-9A52-913278EBE3E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9FE5-9347-4D3E-8CE8-62A5DCCFC3E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E186-0C67-465B-B696-06EEEB99B56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5460-D9A8-46EA-BF74-521F8B774F7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913A-E395-4E1F-A8F1-ABA1E2E25B9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C0F1-EA52-4605-894B-482FE84A365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comments" Target="../comments/comment1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comments" Target="../comments/comment12.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comments" Target="../comments/commen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S Assessment Module</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20e0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hy are PLC’s Driving this Caravan?</a:t>
            </a:r>
            <a:endParaRPr b="0" lang="en-US" sz="3900" spc="-1" strike="noStrike">
              <a:solidFill>
                <a:srgbClr val="572314"/>
              </a:solidFill>
              <a:latin typeface="Gill Sans MT"/>
            </a:endParaRPr>
          </a:p>
        </p:txBody>
      </p:sp>
      <p:pic>
        <p:nvPicPr>
          <p:cNvPr id="346" name="Diagram 4" descr=""/>
          <p:cNvPicPr/>
          <p:nvPr/>
        </p:nvPicPr>
        <p:blipFill>
          <a:blip r:embed="rId1"/>
          <a:stretch/>
        </p:blipFill>
        <p:spPr>
          <a:xfrm>
            <a:off x="-6480" y="1090440"/>
            <a:ext cx="9156960" cy="556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6840" y="1600200"/>
            <a:ext cx="3962520" cy="4525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ing For Landmark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TextBox 4"/>
          <p:cNvSpPr/>
          <p:nvPr/>
        </p:nvSpPr>
        <p:spPr>
          <a:xfrm>
            <a:off x="4952880" y="1752480"/>
            <a:ext cx="3962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at does this look like in the class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a formative assessment be used as a tool to improve student learning outcomes, as a part of the literacy initiative, and as a component of responsive teaching?</a:t>
            </a:r>
            <a:endParaRPr b="0" lang="en-US" sz="1800" spc="-1" strike="noStrike">
              <a:solidFill>
                <a:srgbClr val="000000"/>
              </a:solidFill>
              <a:latin typeface="Arial"/>
            </a:endParaRPr>
          </a:p>
        </p:txBody>
      </p:sp>
      <p:pic>
        <p:nvPicPr>
          <p:cNvPr id="349" name="Rectangle 6" descr=""/>
          <p:cNvPicPr/>
          <p:nvPr/>
        </p:nvPicPr>
        <p:blipFill>
          <a:blip r:embed="rId1"/>
          <a:stretch/>
        </p:blipFill>
        <p:spPr>
          <a:xfrm>
            <a:off x="1957320" y="3670200"/>
            <a:ext cx="4943520" cy="1146240"/>
          </a:xfrm>
          <a:prstGeom prst="rect">
            <a:avLst/>
          </a:prstGeom>
          <a:ln w="0">
            <a:noFill/>
          </a:ln>
        </p:spPr>
      </p:pic>
      <p:pic>
        <p:nvPicPr>
          <p:cNvPr id="350" name="Rectangle 7" descr=""/>
          <p:cNvPicPr/>
          <p:nvPr/>
        </p:nvPicPr>
        <p:blipFill>
          <a:blip r:embed="rId2"/>
          <a:stretch/>
        </p:blipFill>
        <p:spPr>
          <a:xfrm>
            <a:off x="133200" y="4595760"/>
            <a:ext cx="4535640" cy="1390680"/>
          </a:xfrm>
          <a:prstGeom prst="rect">
            <a:avLst/>
          </a:prstGeom>
          <a:ln w="0">
            <a:noFill/>
          </a:ln>
        </p:spPr>
      </p:pic>
      <p:sp>
        <p:nvSpPr>
          <p:cNvPr id="351" name="Title 1"/>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Are We There Yet?</a:t>
            </a:r>
            <a:br>
              <a:rPr sz="2000"/>
            </a:br>
            <a:r>
              <a:rPr b="0" lang="en-US" sz="2000" spc="-1" strike="noStrike">
                <a:solidFill>
                  <a:srgbClr val="000000"/>
                </a:solidFill>
                <a:latin typeface="Gill Sans MT"/>
              </a:rPr>
              <a:t>Using Formative Assessment to Enhance Student Learning and Chart a Course to Arrive at Desired Learning Outcomes</a:t>
            </a:r>
            <a:endParaRPr b="0" lang="en-US" sz="2000" spc="-1" strike="noStrike">
              <a:solidFill>
                <a:srgbClr val="000000"/>
              </a:solidFill>
              <a:latin typeface="Arial"/>
            </a:endParaRPr>
          </a:p>
        </p:txBody>
      </p:sp>
      <p:pic>
        <p:nvPicPr>
          <p:cNvPr id="352" name="Rectangle 11" descr=""/>
          <p:cNvPicPr/>
          <p:nvPr/>
        </p:nvPicPr>
        <p:blipFill>
          <a:blip r:embed="rId3"/>
          <a:stretch/>
        </p:blipFill>
        <p:spPr>
          <a:xfrm>
            <a:off x="4614840" y="4602240"/>
            <a:ext cx="4584600" cy="2388960"/>
          </a:xfrm>
          <a:prstGeom prst="rect">
            <a:avLst/>
          </a:prstGeom>
          <a:ln w="0">
            <a:noFill/>
          </a:ln>
        </p:spPr>
      </p:pic>
      <p:sp>
        <p:nvSpPr>
          <p:cNvPr id="353" name="Rectangle 10"/>
          <p:cNvSpPr/>
          <p:nvPr/>
        </p:nvSpPr>
        <p:spPr>
          <a:xfrm>
            <a:off x="228600" y="2666880"/>
            <a:ext cx="457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Formative Assess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tudent progress is measured through multiple methods of formative evaluation intentionally designed to magnify student needs and to shape future less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6840" y="1600200"/>
            <a:ext cx="3962520" cy="4525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ing For Landmark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TextBox 4"/>
          <p:cNvSpPr/>
          <p:nvPr/>
        </p:nvSpPr>
        <p:spPr>
          <a:xfrm>
            <a:off x="4952880" y="1752480"/>
            <a:ext cx="3962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at does this look like in the class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a formative assessment be used as a tool to improve student learning outcomes, as a part of the literacy initiative, and as a component of responsive teaching?</a:t>
            </a:r>
            <a:endParaRPr b="0" lang="en-US" sz="1800" spc="-1" strike="noStrike">
              <a:solidFill>
                <a:srgbClr val="000000"/>
              </a:solidFill>
              <a:latin typeface="Arial"/>
            </a:endParaRPr>
          </a:p>
        </p:txBody>
      </p:sp>
      <p:pic>
        <p:nvPicPr>
          <p:cNvPr id="356" name="Rectangle 6" descr=""/>
          <p:cNvPicPr/>
          <p:nvPr/>
        </p:nvPicPr>
        <p:blipFill>
          <a:blip r:embed="rId1"/>
          <a:stretch/>
        </p:blipFill>
        <p:spPr>
          <a:xfrm>
            <a:off x="1957320" y="3670200"/>
            <a:ext cx="4943520" cy="1146240"/>
          </a:xfrm>
          <a:prstGeom prst="rect">
            <a:avLst/>
          </a:prstGeom>
          <a:ln w="0">
            <a:noFill/>
          </a:ln>
        </p:spPr>
      </p:pic>
      <p:pic>
        <p:nvPicPr>
          <p:cNvPr id="357" name="Rectangle 7" descr=""/>
          <p:cNvPicPr/>
          <p:nvPr/>
        </p:nvPicPr>
        <p:blipFill>
          <a:blip r:embed="rId2"/>
          <a:stretch/>
        </p:blipFill>
        <p:spPr>
          <a:xfrm>
            <a:off x="133200" y="4595760"/>
            <a:ext cx="4535640" cy="1390680"/>
          </a:xfrm>
          <a:prstGeom prst="rect">
            <a:avLst/>
          </a:prstGeom>
          <a:ln w="0">
            <a:noFill/>
          </a:ln>
        </p:spPr>
      </p:pic>
      <p:sp>
        <p:nvSpPr>
          <p:cNvPr id="358" name="Title 1"/>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Are We There Yet?</a:t>
            </a:r>
            <a:br>
              <a:rPr sz="2000"/>
            </a:br>
            <a:r>
              <a:rPr b="0" lang="en-US" sz="2000" spc="-1" strike="noStrike">
                <a:solidFill>
                  <a:srgbClr val="000000"/>
                </a:solidFill>
                <a:latin typeface="Gill Sans MT"/>
              </a:rPr>
              <a:t>Using Formative Assessment to Enhance Student Learning and Chart a Course to Arrive at Desired Learning Outcomes</a:t>
            </a:r>
            <a:endParaRPr b="0" lang="en-US" sz="2000" spc="-1" strike="noStrike">
              <a:solidFill>
                <a:srgbClr val="000000"/>
              </a:solidFill>
              <a:latin typeface="Arial"/>
            </a:endParaRPr>
          </a:p>
        </p:txBody>
      </p:sp>
      <p:pic>
        <p:nvPicPr>
          <p:cNvPr id="359" name="Rectangle 11" descr=""/>
          <p:cNvPicPr/>
          <p:nvPr/>
        </p:nvPicPr>
        <p:blipFill>
          <a:blip r:embed="rId3"/>
          <a:stretch/>
        </p:blipFill>
        <p:spPr>
          <a:xfrm>
            <a:off x="4614840" y="4602240"/>
            <a:ext cx="4584600" cy="2388960"/>
          </a:xfrm>
          <a:prstGeom prst="rect">
            <a:avLst/>
          </a:prstGeom>
          <a:ln w="0">
            <a:noFill/>
          </a:ln>
        </p:spPr>
      </p:pic>
      <p:sp>
        <p:nvSpPr>
          <p:cNvPr id="360" name="Rectangle 10"/>
          <p:cNvSpPr/>
          <p:nvPr/>
        </p:nvSpPr>
        <p:spPr>
          <a:xfrm>
            <a:off x="228600" y="2666880"/>
            <a:ext cx="457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Formative Assess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tudent progress is measured through multiple methods of formative evaluation intentionally designed to magnify student needs and to shape future less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s the Destination</a:t>
            </a:r>
            <a:br>
              <a:rPr sz="4300"/>
            </a:br>
            <a:r>
              <a:rPr b="0" lang="en-US" sz="2000" spc="-1" strike="noStrike">
                <a:solidFill>
                  <a:srgbClr val="572314"/>
                </a:solidFill>
                <a:latin typeface="Gill Sans MT"/>
              </a:rPr>
              <a:t>Beginning with the End in Mind</a:t>
            </a:r>
            <a:endParaRPr b="0" lang="en-US" sz="2000" spc="-1" strike="noStrike">
              <a:solidFill>
                <a:srgbClr val="572314"/>
              </a:solidFill>
              <a:latin typeface="Gill Sans MT"/>
            </a:endParaRPr>
          </a:p>
        </p:txBody>
      </p:sp>
      <p:sp>
        <p:nvSpPr>
          <p:cNvPr id="362" name=""/>
          <p:cNvSpPr txBox="1"/>
          <p:nvPr/>
        </p:nvSpPr>
        <p:spPr>
          <a:xfrm>
            <a:off x="456840" y="1371600"/>
            <a:ext cx="3962520" cy="4525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ummative Task—</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TextBox 3"/>
          <p:cNvSpPr/>
          <p:nvPr/>
        </p:nvSpPr>
        <p:spPr>
          <a:xfrm>
            <a:off x="380880" y="1905120"/>
            <a:ext cx="3810240" cy="2040840"/>
          </a:xfrm>
          <a:prstGeom prst="rect">
            <a:avLst/>
          </a:prstGeom>
          <a:solidFill>
            <a:srgbClr val="d9d9d9">
              <a:alpha val="9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Summative Performance Tas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 addition to traditional evaluation of content knowledge, students demonstrate their understanding of content relevance and their ability to transfer and apply what they have learned.  Strong performance tasks assess content objectives and d.</a:t>
            </a:r>
            <a:endParaRPr b="0" lang="en-US" sz="1600" spc="-1" strike="noStrike">
              <a:solidFill>
                <a:srgbClr val="000000"/>
              </a:solidFill>
              <a:latin typeface="Arial"/>
            </a:endParaRPr>
          </a:p>
        </p:txBody>
      </p:sp>
      <p:sp>
        <p:nvSpPr>
          <p:cNvPr id="364" name="TextBox 4"/>
          <p:cNvSpPr/>
          <p:nvPr/>
        </p:nvSpPr>
        <p:spPr>
          <a:xfrm>
            <a:off x="4648320" y="2133720"/>
            <a:ext cx="3352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at does this look like in the 21</a:t>
            </a:r>
            <a:r>
              <a:rPr b="0" lang="en-US" sz="1800" spc="-1" strike="noStrike" baseline="30000">
                <a:solidFill>
                  <a:srgbClr val="000000"/>
                </a:solidFill>
                <a:latin typeface="Gill Sans MT"/>
              </a:rPr>
              <a:t>st</a:t>
            </a:r>
            <a:r>
              <a:rPr b="0" lang="en-US" sz="1800" spc="-1" strike="noStrike">
                <a:solidFill>
                  <a:srgbClr val="000000"/>
                </a:solidFill>
                <a:latin typeface="Gill Sans MT"/>
              </a:rPr>
              <a:t> century class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a teacher design a summative task that also helps shape the stage 3 plan?</a:t>
            </a:r>
            <a:endParaRPr b="0" lang="en-US" sz="1800" spc="-1" strike="noStrike">
              <a:solidFill>
                <a:srgbClr val="000000"/>
              </a:solidFill>
              <a:latin typeface="Arial"/>
            </a:endParaRPr>
          </a:p>
        </p:txBody>
      </p:sp>
      <p:pic>
        <p:nvPicPr>
          <p:cNvPr id="365" name="Rectangle 6" descr=""/>
          <p:cNvPicPr/>
          <p:nvPr/>
        </p:nvPicPr>
        <p:blipFill>
          <a:blip r:embed="rId1"/>
          <a:stretch/>
        </p:blipFill>
        <p:spPr>
          <a:xfrm>
            <a:off x="2189160" y="3597120"/>
            <a:ext cx="4943520" cy="1140120"/>
          </a:xfrm>
          <a:prstGeom prst="rect">
            <a:avLst/>
          </a:prstGeom>
          <a:ln w="0">
            <a:noFill/>
          </a:ln>
        </p:spPr>
      </p:pic>
      <p:pic>
        <p:nvPicPr>
          <p:cNvPr id="366" name="Rectangle 7" descr=""/>
          <p:cNvPicPr/>
          <p:nvPr/>
        </p:nvPicPr>
        <p:blipFill>
          <a:blip r:embed="rId2"/>
          <a:stretch/>
        </p:blipFill>
        <p:spPr>
          <a:xfrm>
            <a:off x="-212760" y="4438800"/>
            <a:ext cx="5065920" cy="1942920"/>
          </a:xfrm>
          <a:prstGeom prst="rect">
            <a:avLst/>
          </a:prstGeom>
          <a:ln w="0">
            <a:noFill/>
          </a:ln>
        </p:spPr>
      </p:pic>
      <p:pic>
        <p:nvPicPr>
          <p:cNvPr id="367" name="Rectangle 8" descr=""/>
          <p:cNvPicPr/>
          <p:nvPr/>
        </p:nvPicPr>
        <p:blipFill>
          <a:blip r:embed="rId3"/>
          <a:stretch/>
        </p:blipFill>
        <p:spPr>
          <a:xfrm>
            <a:off x="4627440" y="4438800"/>
            <a:ext cx="4461120" cy="1150920"/>
          </a:xfrm>
          <a:prstGeom prst="rect">
            <a:avLst/>
          </a:prstGeom>
          <a:ln w="0">
            <a:noFill/>
          </a:ln>
        </p:spPr>
      </p:pic>
      <p:pic>
        <p:nvPicPr>
          <p:cNvPr id="368" name="Rectangle 9" descr=""/>
          <p:cNvPicPr/>
          <p:nvPr/>
        </p:nvPicPr>
        <p:blipFill>
          <a:blip r:embed="rId4"/>
          <a:stretch/>
        </p:blipFill>
        <p:spPr>
          <a:xfrm>
            <a:off x="2803680" y="5505480"/>
            <a:ext cx="4230360" cy="115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Box 1"/>
          <p:cNvSpPr/>
          <p:nvPr/>
        </p:nvSpPr>
        <p:spPr>
          <a:xfrm>
            <a:off x="990720" y="45720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hinking Like an Assessor</a:t>
            </a:r>
            <a:endParaRPr b="0" lang="en-US" sz="3200" spc="-1" strike="noStrike">
              <a:solidFill>
                <a:srgbClr val="000000"/>
              </a:solidFill>
              <a:latin typeface="Arial"/>
            </a:endParaRPr>
          </a:p>
        </p:txBody>
      </p:sp>
      <p:sp>
        <p:nvSpPr>
          <p:cNvPr id="370" name="TextBox 2"/>
          <p:cNvSpPr/>
          <p:nvPr/>
        </p:nvSpPr>
        <p:spPr>
          <a:xfrm>
            <a:off x="914400" y="1219320"/>
            <a:ext cx="7543800" cy="55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yourself these ques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What kinds of </a:t>
            </a:r>
            <a:r>
              <a:rPr b="0" lang="en-US" sz="2800" spc="-1" strike="noStrike">
                <a:solidFill>
                  <a:srgbClr val="ff0000"/>
                </a:solidFill>
                <a:latin typeface="Gill Sans MT"/>
                <a:ea typeface="Arial"/>
              </a:rPr>
              <a:t>evidence</a:t>
            </a:r>
            <a:r>
              <a:rPr b="0" lang="en-US" sz="2800" spc="-1" strike="noStrike">
                <a:solidFill>
                  <a:srgbClr val="000000"/>
                </a:solidFill>
                <a:latin typeface="Gill Sans MT"/>
                <a:ea typeface="Arial"/>
              </a:rPr>
              <a:t> do we ne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What </a:t>
            </a:r>
            <a:r>
              <a:rPr b="0" lang="en-US" sz="2800" spc="-1" strike="noStrike">
                <a:solidFill>
                  <a:srgbClr val="ff0000"/>
                </a:solidFill>
                <a:latin typeface="Gill Sans MT"/>
                <a:ea typeface="Arial"/>
              </a:rPr>
              <a:t>specific characteristics </a:t>
            </a:r>
            <a:r>
              <a:rPr b="0" lang="en-US" sz="2800" spc="-1" strike="noStrike">
                <a:solidFill>
                  <a:srgbClr val="000000"/>
                </a:solidFill>
                <a:latin typeface="Gill Sans MT"/>
                <a:ea typeface="Arial"/>
              </a:rPr>
              <a:t>in student responses, products, or performances should we examine?</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Does the proposed evidence enable us to </a:t>
            </a:r>
            <a:r>
              <a:rPr b="0" lang="en-US" sz="2800" spc="-1" strike="noStrike">
                <a:solidFill>
                  <a:srgbClr val="ff0000"/>
                </a:solidFill>
                <a:latin typeface="Gill Sans MT"/>
                <a:ea typeface="Arial"/>
              </a:rPr>
              <a:t>infer</a:t>
            </a:r>
            <a:r>
              <a:rPr b="0" lang="en-US" sz="2800" spc="-1" strike="noStrike">
                <a:solidFill>
                  <a:srgbClr val="000000"/>
                </a:solidFill>
                <a:latin typeface="Gill Sans MT"/>
                <a:ea typeface="Arial"/>
              </a:rPr>
              <a:t> a student’s knowledge, skill, or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1" name="Picture 2" descr="C:\Documents and Settings\ankruh\Local Settings\Temporary Internet Files\Content.IE5\C70FU3WV\MCj00978910000[1].wmf"/>
          <p:cNvPicPr/>
          <p:nvPr/>
        </p:nvPicPr>
        <p:blipFill>
          <a:blip r:embed="rId1"/>
          <a:stretch/>
        </p:blipFill>
        <p:spPr>
          <a:xfrm>
            <a:off x="7315200" y="380880"/>
            <a:ext cx="1395360" cy="146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990720" y="30492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When Thinking Like an Assesso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Ask Yourself:</a:t>
            </a:r>
            <a:endParaRPr b="0" lang="en-US" sz="3200" spc="-1" strike="noStrike">
              <a:solidFill>
                <a:srgbClr val="000000"/>
              </a:solidFill>
              <a:latin typeface="Arial"/>
            </a:endParaRPr>
          </a:p>
        </p:txBody>
      </p:sp>
      <p:sp>
        <p:nvSpPr>
          <p:cNvPr id="373" name="TextBox 3"/>
          <p:cNvSpPr/>
          <p:nvPr/>
        </p:nvSpPr>
        <p:spPr>
          <a:xfrm>
            <a:off x="1219320" y="1523880"/>
            <a:ext cx="7086600" cy="50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rPr>
              <a:t>You should be asking yourself…</a:t>
            </a:r>
            <a:endParaRPr b="0" lang="en-US" sz="24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hat would be sufficient and revealing evidence of understanding?</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iven the goals, what performance tasks  must anchor the unit and focus the instructional work?</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hat are the different types of evidence required by Stage 1 desired results?</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gainst what criteria will we appropriately consider work and assess levels of quality?</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id the assessments reveal and distinguish those who really understood from those who only seemed to?  Am I clear on the reasons behind learner mistakes?</a:t>
            </a:r>
            <a:endParaRPr b="0" lang="en-US" sz="1800" spc="-1" strike="noStrike">
              <a:solidFill>
                <a:srgbClr val="000000"/>
              </a:solidFill>
              <a:latin typeface="Arial"/>
            </a:endParaRPr>
          </a:p>
        </p:txBody>
      </p:sp>
      <p:sp>
        <p:nvSpPr>
          <p:cNvPr id="374" name="TextBox 4"/>
          <p:cNvSpPr/>
          <p:nvPr/>
        </p:nvSpPr>
        <p:spPr>
          <a:xfrm>
            <a:off x="1828800" y="6429240"/>
            <a:ext cx="685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Understanding By Design 2</a:t>
            </a:r>
            <a:r>
              <a:rPr b="0" lang="en-US" sz="1200" spc="-1" strike="noStrike" baseline="30000">
                <a:solidFill>
                  <a:srgbClr val="000000"/>
                </a:solidFill>
                <a:latin typeface="Lucida Sans Unicode"/>
              </a:rPr>
              <a:t>nd</a:t>
            </a:r>
            <a:r>
              <a:rPr b="0" lang="en-US" sz="1200" spc="-1" strike="noStrike">
                <a:solidFill>
                  <a:srgbClr val="000000"/>
                </a:solidFill>
                <a:latin typeface="Lucida Sans Unicode"/>
              </a:rPr>
              <a:t> Edition– Grant Wiggins and Jay McTigh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might be a good place to put a “balance” of samples, both traditional and performance based for  1) pre-assessment 2) formative  and 3) summative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might be a good spot to have teachers work in groups by subject to create one of each on their own.  We could have 1 group tasked to create pre- assessments another to do formative and another group to do summative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 we want to go into rubric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 we want to talk about common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ssion Goals</a:t>
            </a:r>
            <a:endParaRPr b="0" lang="en-US" sz="32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plore the importance of creating a balanced assessment system within a unit of stud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dentify the pieces of a balanced assessment syste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eate a variety of assessment pieces for a unit of study.</a:t>
            </a:r>
            <a:endParaRPr b="0" lang="en-US" sz="3200" spc="-1" strike="noStrike">
              <a:solidFill>
                <a:srgbClr val="000000"/>
              </a:solidFill>
              <a:latin typeface="Gill Sans MT"/>
            </a:endParaRPr>
          </a:p>
        </p:txBody>
      </p:sp>
      <p:pic>
        <p:nvPicPr>
          <p:cNvPr id="329" name="Picture 2" descr="C:\Program Files\Microsoft Office\MEDIA\CAGCAT10\j0195812.wmf"/>
          <p:cNvPicPr/>
          <p:nvPr/>
        </p:nvPicPr>
        <p:blipFill>
          <a:blip r:embed="rId1"/>
          <a:stretch/>
        </p:blipFill>
        <p:spPr>
          <a:xfrm>
            <a:off x="4800600" y="46483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6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s – Know , Understand, and Do</a:t>
            </a:r>
            <a:endParaRPr b="0" lang="en-US" sz="3200" spc="-1" strike="noStrike">
              <a:solidFill>
                <a:srgbClr val="572314"/>
              </a:solidFill>
              <a:latin typeface="Gill Sans MT"/>
            </a:endParaRPr>
          </a:p>
        </p:txBody>
      </p:sp>
      <p:sp>
        <p:nvSpPr>
          <p:cNvPr id="331" name=""/>
          <p:cNvSpPr txBox="1"/>
          <p:nvPr/>
        </p:nvSpPr>
        <p:spPr>
          <a:xfrm>
            <a:off x="151920" y="609120"/>
            <a:ext cx="8991720" cy="6324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nduring Understandings:</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fferentiated Instruction (DI) and Understanding by Design (UbD) are essential frameworks for ensuring the development of high quality curriculum.</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re is a direct connection between curriculum and instruction and student performance</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curriculum designed to develop understanding uncovers complex ideas by involving students in active questioning.</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well-designed, balanced assessment system leads to high-quality teaching and deeper student understanding.</a:t>
            </a: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ssential Question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can pre, formative, and summative assessment be used to better understand students and shape the learning opportunities presented to student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o what extent  does  a teacher use formative assessment  as a measure of student understanding and to plan or modify learning opportunities presented to student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can pre, formative, and summative assessment  be used to promote rigor and relevance in the classroom?</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will I know the degree to which my students have gained understanding of unit goals and objective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hat assessment tasks and other evidence will anchor our curricular units and thus guide our instruction?</a:t>
            </a: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 – Know , Understand, and Do</a:t>
            </a:r>
            <a:endParaRPr b="0" lang="en-US" sz="32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Know:</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sessment is Stage 2 of UbD framework</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ous types of assessment</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mportance of using a balanced assessment system to monitor student understanding</a:t>
            </a:r>
            <a:endParaRPr b="0" lang="en-US" sz="2800" spc="-1" strike="noStrike">
              <a:solidFill>
                <a:srgbClr val="000000"/>
              </a:solidFill>
              <a:latin typeface="Gill Sans MT"/>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o:</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hould we provide pre-assessment to determine how much they already know about “balanced assessment”? Something like:  How do you know you are done with a unit? How do you know the students have mastered the material at the end of a unit?  </a:t>
            </a:r>
            <a:endParaRPr b="0" lang="en-US" sz="3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raditional vs. performance </a:t>
            </a:r>
            <a:endParaRPr b="0" lang="en-US" sz="3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rticle defines balanced assessments as  </a:t>
            </a:r>
            <a:r>
              <a:rPr b="0" i="1" lang="en-US" sz="3000" spc="-1" strike="noStrike">
                <a:solidFill>
                  <a:srgbClr val="000000"/>
                </a:solidFill>
                <a:latin typeface="Gill Sans MT"/>
              </a:rPr>
              <a:t>summative, interim and formative assessments used to address instructional, accountability and learning needs</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tle 1"/>
          <p:cNvSpPr/>
          <p:nvPr/>
        </p:nvSpPr>
        <p:spPr>
          <a:xfrm>
            <a:off x="457200" y="268200"/>
            <a:ext cx="8229600" cy="139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ill Sans MT"/>
              </a:rPr>
              <a:t>“</a:t>
            </a:r>
            <a:r>
              <a:rPr b="1" lang="en-US" sz="4000" spc="-1" strike="noStrike">
                <a:solidFill>
                  <a:srgbClr val="000000"/>
                </a:solidFill>
                <a:latin typeface="Gill Sans MT"/>
              </a:rPr>
              <a:t>Teach, Test, and Hope for the Best?”</a:t>
            </a:r>
            <a:endParaRPr b="0" lang="en-US" sz="4000" spc="-1" strike="noStrike">
              <a:solidFill>
                <a:srgbClr val="000000"/>
              </a:solidFill>
              <a:latin typeface="Arial"/>
            </a:endParaRPr>
          </a:p>
        </p:txBody>
      </p:sp>
      <p:pic>
        <p:nvPicPr>
          <p:cNvPr id="337" name="Picture 2" descr="C:\Documents and Settings\ankruh\Local Settings\Temporary Internet Files\Content.IE5\NXRC57ZS\MPj04395240000[1].jpg"/>
          <p:cNvPicPr/>
          <p:nvPr/>
        </p:nvPicPr>
        <p:blipFill>
          <a:blip r:embed="rId1"/>
          <a:stretch/>
        </p:blipFill>
        <p:spPr>
          <a:xfrm>
            <a:off x="2514600" y="1828800"/>
            <a:ext cx="3886200" cy="2593800"/>
          </a:xfrm>
          <a:prstGeom prst="rect">
            <a:avLst/>
          </a:prstGeom>
          <a:ln w="0">
            <a:noFill/>
          </a:ln>
        </p:spPr>
      </p:pic>
      <p:sp>
        <p:nvSpPr>
          <p:cNvPr id="338" name="TextBox 3"/>
          <p:cNvSpPr/>
          <p:nvPr/>
        </p:nvSpPr>
        <p:spPr>
          <a:xfrm>
            <a:off x="762120" y="45720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Discuss with a shoulder partn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Lucida Sans Unicode"/>
              </a:rPr>
              <a:t>How do you typically </a:t>
            </a:r>
            <a:r>
              <a:rPr b="0" i="1" lang="en-US" sz="3200" spc="-1" strike="noStrike" u="sng">
                <a:solidFill>
                  <a:srgbClr val="000000"/>
                </a:solidFill>
                <a:uFillTx/>
                <a:latin typeface="Lucida Sans Unicode"/>
              </a:rPr>
              <a:t>assess</a:t>
            </a:r>
            <a:r>
              <a:rPr b="0" i="1" lang="en-US" sz="3200" spc="-1" strike="noStrike">
                <a:solidFill>
                  <a:srgbClr val="000000"/>
                </a:solidFill>
                <a:latin typeface="Lucida Sans Unicode"/>
              </a:rPr>
              <a:t> students’ understanding</a:t>
            </a:r>
            <a:r>
              <a:rPr b="1" i="1" lang="en-US" sz="3200" spc="-1" strike="noStrike">
                <a:solidFill>
                  <a:srgbClr val="000000"/>
                </a:solidFill>
                <a:latin typeface="Lucida Sans Unicod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re we could model </a:t>
            </a:r>
            <a:r>
              <a:rPr b="0" i="1" lang="en-US" sz="3200" spc="-1" strike="noStrike">
                <a:solidFill>
                  <a:srgbClr val="000000"/>
                </a:solidFill>
                <a:latin typeface="Gill Sans MT"/>
              </a:rPr>
              <a:t>here’s what, so what, now what</a:t>
            </a:r>
            <a:r>
              <a:rPr b="0" lang="en-US" sz="3200" spc="-1" strike="noStrike">
                <a:solidFill>
                  <a:srgbClr val="000000"/>
                </a:solidFill>
                <a:latin typeface="Gill Sans MT"/>
              </a:rPr>
              <a:t> strategy with article by Tracy Huebn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ad article then fill out </a:t>
            </a:r>
            <a:r>
              <a:rPr b="0" i="1" lang="en-US" sz="3200" spc="-1" strike="noStrike">
                <a:solidFill>
                  <a:srgbClr val="000000"/>
                </a:solidFill>
                <a:latin typeface="Gill Sans MT"/>
              </a:rPr>
              <a:t>Here’s What and So What</a:t>
            </a:r>
            <a:r>
              <a:rPr b="0" lang="en-US" sz="3200" spc="-1" strike="noStrike">
                <a:solidFill>
                  <a:srgbClr val="000000"/>
                </a:solidFill>
                <a:latin typeface="Gill Sans MT"/>
              </a:rPr>
              <a:t>  portion of chart– then sha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re might be a good place to put examples of content objectives –SOLs –K’s- skills, U’s-Enduring Understandings- concept and D’s- Do’s/ performance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od spot to also put up the Gifted Benchmark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might be a good place to put in Alison’s slides on the three assessment types preassessment, formative and summative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11:33Z</dcterms:created>
  <dc:creator>aaboubou</dc:creator>
  <dc:description/>
  <dc:language>en-US</dc:language>
  <cp:lastModifiedBy>lydshows</cp:lastModifiedBy>
  <dcterms:modified xsi:type="dcterms:W3CDTF">2011-02-14T19:06:38Z</dcterms:modified>
  <cp:revision>28</cp:revision>
  <dc:subject/>
  <dc:title>HS Assessment Module</dc:title>
</cp:coreProperties>
</file>